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434-A634-45F9-8E74-B7E4240E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080-EC62-4274-AEB7-21E438D5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664-CAA7-4FDD-8DD4-11854885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62AC-01D4-493B-B53A-19A1CDB4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1ECD-A026-4A1E-963C-F37B344F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8230-6DEB-4449-8DD1-6CE8C90D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F7E3-C931-4826-8ED0-36301B84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AD23-A025-4EF4-ACB2-85BF3941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E154-A7D4-49F6-9EEA-BE67C5B9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32A5-46A6-4BFF-B118-D775CC2E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CC4B-AED5-42F9-8C5A-32988933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90FC-2141-492D-A3DD-72C21C9F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521E-EE66-4D7B-A956-400EB491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A977-5D12-41A5-B827-9901AFDF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4352-859D-4610-B46B-A46A689B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DEF8-647A-40D6-A505-8DA71518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9347-5F14-40F6-B288-3E759257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E33-4750-4B95-AE79-31D07A3A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92FA-5BA4-4EEC-9745-9369EA89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55A3-DF75-44E7-8164-2BEE3ABC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BB9-4287-477C-A043-4753B54F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D67-2676-4F1B-9DEB-18A07B21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FAC-E7DF-4A4B-A6D0-FC535FBD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100-5EA0-4A22-8534-A0A14C35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3741-92FE-4DB3-8F07-0CA4D171983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4C21-92D4-4F45-A32A-072C5E77B48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BOX ELDER </a:t>
            </a:r>
            <a:br>
              <a:rPr sz="6000"/>
            </a:b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HIGH SCHOOL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3429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LP Program Overview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b9efee"/>
                </a:solidFill>
                <a:uFillTx/>
                <a:latin typeface="Garamond"/>
              </a:rPr>
              <a:t>ALP levels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evel 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Pre Emergent. Students at this level are non English Proficient. They are enrolled in 2 ALP class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evel 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Early Intermediate. Students at this level are Limited English Proficient. They are enrolled in 1 or 2 ALP class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evel 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Intermediate.  Students at this level are still Limited English Proficient but more advanced. They are enrolled in 1 or 2 ALP class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evel 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Early Advanced. These students are monitored regularly and receive no or 1 ALP clas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evel F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Advanced. Students at this level are Fully English Proficient. They are mainstreamed and monitored for at least 2 yea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ited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– Former ALP student. Students must pass the English Language Arts CRT to be considered fluent and exited from the ALP program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LP Program Placement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46640"/>
            <a:ext cx="9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placement is based on a student’s English proficiency level, which is determined by the QIA and UALPA test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1295280"/>
          <a:ext cx="9144000" cy="4927680"/>
        </p:xfrm>
        <a:graphic>
          <a:graphicData uri="http://schemas.openxmlformats.org/drawingml/2006/table">
            <a:tbl>
              <a:tblPr/>
              <a:tblGrid>
                <a:gridCol w="762120"/>
                <a:gridCol w="838080"/>
                <a:gridCol w="685800"/>
                <a:gridCol w="685800"/>
                <a:gridCol w="1371600"/>
                <a:gridCol w="1219320"/>
                <a:gridCol w="914400"/>
                <a:gridCol w="1600200"/>
                <a:gridCol w="1066680"/>
              </a:tblGrid>
              <a:tr h="73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ral        Literac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AL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ral        literac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ea o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glish Limit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glish Proficiency Le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amp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cus of Language Instru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ad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riting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 Emerg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A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Intensive Englis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Individual English Instr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ad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arly Intermedi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A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Sheltered Englis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Individual English Instr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amp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ad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ermedi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A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Sheltered Englis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Individual English Instr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amp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ad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arly Advanc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A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Individual English Instruc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vanc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in Stre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nit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s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it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nitored  2 yea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er ALP Stud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-90360" y="613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458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-10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Key to Previous sli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85800"/>
            <a:ext cx="0" cy="3657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533520"/>
          <a:ext cx="9144000" cy="6095880"/>
        </p:xfrm>
        <a:graphic>
          <a:graphicData uri="http://schemas.openxmlformats.org/drawingml/2006/table">
            <a:tbl>
              <a:tblPr/>
              <a:tblGrid>
                <a:gridCol w="2286000"/>
                <a:gridCol w="2819520"/>
                <a:gridCol w="4038480"/>
              </a:tblGrid>
              <a:tr h="609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QIA &amp; UALP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O = O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 = Begin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I = Early Intermedi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 = Intermedi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A = Early Intermedi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= Advanc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L = Literac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Reading &amp; Writin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W = Pre Wri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W = Word Wri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W = Sentence Wri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 = Narrative Wri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W = Advanced Writing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QIA Proficiency Lev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 = Begin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I = Early Intermedi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  = Intermedi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A = Early Advanc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= Advanc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ALPA Proficiency Leve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 = Pre Emerg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 = Emerg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 = Intermedi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= Advanc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 = Flu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105520" y="3279600"/>
            <a:ext cx="426708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ALP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vel P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– NEP / 2 ALP class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vel 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– LEP / 2 ALP class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vel I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– LEP / 1-2 ALP class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vel 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– FEP / Monitored 0 or 1 ALP class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vel F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– Out of ALP, monitored for 2 yea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ote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Must pass the English Language Ar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RT to be considered flu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212040"/>
            <a:ext cx="563868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x Elder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L/ALP Gradual Exit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52480" y="1600200"/>
          <a:ext cx="5029200" cy="136512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    Intensive English Instruction                                             Mike Robinson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    OU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    Sheltered Government (Not currently teaching)               Peter Gerlac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    Individual English Instruction                                           Mike Robins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    OUT     Art, music, P.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751760" y="3165480"/>
            <a:ext cx="3675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um Proficiency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  E &amp;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52480" y="3352680"/>
          <a:ext cx="5029200" cy="136548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   O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   English (sheltered)                                                            Martha Ew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   Sheltered Government (Not currently teaching)              Peter Gerlac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   Individual English Instruction                                          Mike Robins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   O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1752120" y="5025960"/>
            <a:ext cx="3377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roficiency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 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52480" y="5257800"/>
          <a:ext cx="5029200" cy="136512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    O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    OU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    O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    Individual English Instruction  (if needed)                        Mike Robins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    O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752480" y="6675480"/>
            <a:ext cx="184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129528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ow Proficiency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evel 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heltered Courses—Content Are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:  An instructional approach that helps LEP students learn content while acquiring Engli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the core curriculum accessible to LEP stud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ost English language acqui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e a success experience, strengthen self-concept, and ease process of accultu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7:24:25Z</dcterms:created>
  <dc:creator>708144</dc:creator>
  <dc:description/>
  <dc:language>en-US</dc:language>
  <cp:lastModifiedBy>Box Elder School District</cp:lastModifiedBy>
  <dcterms:modified xsi:type="dcterms:W3CDTF">2008-12-05T22:36:09Z</dcterms:modified>
  <cp:revision>3</cp:revision>
  <dc:subject/>
  <dc:title>BOX ELDER  HIGH SCHOOL</dc:title>
</cp:coreProperties>
</file>